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CA8B-EE21-4341-BC18-D52161966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3765-C799-47FC-AEFF-7838030E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327-EBB6-4E76-84BF-2A406C81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9642-C6EE-4A06-8021-C76FDBA2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5054-5A69-4394-B90F-C7309B36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FD4C-45D8-42AB-BF50-8C06B30BC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2253-7165-4541-B3FE-9BA3C7F35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3AA5-AA39-4BDB-A19D-292363A0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4543-7739-4F11-9017-FFBA7E870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5CDD-A0F4-4D81-BF17-FC13FE56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AEFC-B3FE-4087-B096-DC2513AFE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F64E-3DA2-46C1-A9BF-D04FF9F3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9B5F4-E21E-4B57-8802-2CFAFE88E705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ǒu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,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shuō shénme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pic>
        <p:nvPicPr>
          <p:cNvPr id="43" name="Picture 2" descr="C:\Documents and Settings\lsabey\Local Settings\Temporary Internet Files\Content.IE5\YSZGR4KJ\MPj04410490000[1].jpg"/>
          <p:cNvPicPr/>
          <p:nvPr/>
        </p:nvPicPr>
        <p:blipFill>
          <a:blip r:embed="rId1"/>
          <a:stretch/>
        </p:blipFill>
        <p:spPr>
          <a:xfrm>
            <a:off x="3048120" y="2208240"/>
            <a:ext cx="289548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āo shuō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8" name="Picture 5" descr="C:\Documents and Settings\lsabey\Local Settings\Temporary Internet Files\Content.IE5\YSZGR4KJ\MPj04223130000[1].jpg"/>
          <p:cNvPicPr/>
          <p:nvPr/>
        </p:nvPicPr>
        <p:blipFill>
          <a:blip r:embed="rId1"/>
          <a:stretch/>
        </p:blipFill>
        <p:spPr>
          <a:xfrm>
            <a:off x="1712880" y="1600200"/>
            <a:ext cx="5718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iú shuō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2" descr="C:\Documents and Settings\lsabey\Local Settings\Temporary Internet Files\Content.IE5\YSZGR4KJ\MPj04386610000[1].jpg"/>
          <p:cNvPicPr/>
          <p:nvPr/>
        </p:nvPicPr>
        <p:blipFill>
          <a:blip r:embed="rId1"/>
          <a:stretch/>
        </p:blipFill>
        <p:spPr>
          <a:xfrm>
            <a:off x="3057480" y="1600200"/>
            <a:ext cx="3029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ǎ shuō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Picture 2" descr="C:\Documents and Settings\lsabey\Local Settings\Temporary Internet Files\Content.IE5\GBG05ZIE\MPj04064980000[1].jpg"/>
          <p:cNvPicPr/>
          <p:nvPr/>
        </p:nvPicPr>
        <p:blipFill>
          <a:blip r:embed="rId1"/>
          <a:stretch/>
        </p:blipFill>
        <p:spPr>
          <a:xfrm>
            <a:off x="1155600" y="1600200"/>
            <a:ext cx="6832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ī shuō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2" descr="C:\Documents and Settings\lsabey\Local Settings\Temporary Internet Files\Content.IE5\YSZGR4KJ\MCj04413950000[1].wmf"/>
          <p:cNvPicPr/>
          <p:nvPr/>
        </p:nvPicPr>
        <p:blipFill>
          <a:blip r:embed="rId1"/>
          <a:stretch/>
        </p:blipFill>
        <p:spPr>
          <a:xfrm>
            <a:off x="3048120" y="2209680"/>
            <a:ext cx="34718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Niǎo shuō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7" name="Picture 2" descr="C:\Documents and Settings\lsabey\Local Settings\Temporary Internet Files\Content.IE5\YSZGR4KJ\MPj04329500000[1].jpg"/>
          <p:cNvPicPr/>
          <p:nvPr/>
        </p:nvPicPr>
        <p:blipFill>
          <a:blip r:embed="rId1"/>
          <a:stretch/>
        </p:blipFill>
        <p:spPr>
          <a:xfrm>
            <a:off x="1371600" y="172872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Yáng shuō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2" descr="C:\Documents and Settings\lsabey\Local Settings\Temporary Internet Files\Content.IE5\Q1HN1WZ2\MPj04393170000[1].jpg"/>
          <p:cNvPicPr/>
          <p:nvPr/>
        </p:nvPicPr>
        <p:blipFill>
          <a:blip r:embed="rId1"/>
          <a:stretch/>
        </p:blipFill>
        <p:spPr>
          <a:xfrm>
            <a:off x="3065400" y="1600200"/>
            <a:ext cx="301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Zhū shuō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Content Placeholder 3" descr="C:\Documents and Settings\lsabey\Local Settings\Temporary Internet Files\Content.IE5\YSZGR4KJ\MPj02278080000[1].jpg"/>
          <p:cNvPicPr/>
          <p:nvPr/>
        </p:nvPicPr>
        <p:blipFill>
          <a:blip r:embed="rId1"/>
          <a:stretch/>
        </p:blipFill>
        <p:spPr>
          <a:xfrm>
            <a:off x="1676520" y="1828800"/>
            <a:ext cx="58053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āo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shuō shénm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5" descr="C:\Documents and Settings\lsabey\Local Settings\Temporary Internet Files\Content.IE5\YSZGR4KJ\MPj04223130000[1].jpg"/>
          <p:cNvPicPr/>
          <p:nvPr/>
        </p:nvPicPr>
        <p:blipFill>
          <a:blip r:embed="rId1"/>
          <a:stretch/>
        </p:blipFill>
        <p:spPr>
          <a:xfrm>
            <a:off x="1371600" y="1523880"/>
            <a:ext cx="578016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Documents and Settings\lsabey\Local Settings\Temporary Internet Files\Content.IE5\YSZGR4KJ\MPj04386610000[1].jpg"/>
          <p:cNvPicPr/>
          <p:nvPr/>
        </p:nvPicPr>
        <p:blipFill>
          <a:blip r:embed="rId1"/>
          <a:stretch/>
        </p:blipFill>
        <p:spPr>
          <a:xfrm>
            <a:off x="2819520" y="1523880"/>
            <a:ext cx="3743280" cy="43387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Niú shuō shénme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120" y="2285640"/>
            <a:ext cx="80773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宋体"/>
              </a:rPr>
              <a:t>O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宋体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Mǎ shuō shénme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2" descr="C:\Documents and Settings\lsabey\Local Settings\Temporary Internet Files\Content.IE5\GBG05ZIE\MPj04064980000[1].jpg"/>
          <p:cNvPicPr/>
          <p:nvPr/>
        </p:nvPicPr>
        <p:blipFill>
          <a:blip r:embed="rId1"/>
          <a:stretch/>
        </p:blipFill>
        <p:spPr>
          <a:xfrm>
            <a:off x="1143000" y="1752480"/>
            <a:ext cx="655308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Jī shuō shénme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2" descr="C:\Documents and Settings\lsabey\Local Settings\Temporary Internet Files\Content.IE5\YSZGR4KJ\MCj04413950000[1].wmf"/>
          <p:cNvPicPr/>
          <p:nvPr/>
        </p:nvPicPr>
        <p:blipFill>
          <a:blip r:embed="rId1"/>
          <a:stretch/>
        </p:blipFill>
        <p:spPr>
          <a:xfrm>
            <a:off x="3048120" y="2209680"/>
            <a:ext cx="34718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宋体"/>
              </a:rPr>
              <a:t>N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iǎo shuō shénm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2" descr="C:\Documents and Settings\lsabey\Local Settings\Temporary Internet Files\Content.IE5\YSZGR4KJ\MPj04329500000[1].jpg"/>
          <p:cNvPicPr/>
          <p:nvPr/>
        </p:nvPicPr>
        <p:blipFill>
          <a:blip r:embed="rId1"/>
          <a:stretch/>
        </p:blipFill>
        <p:spPr>
          <a:xfrm>
            <a:off x="2286000" y="2057400"/>
            <a:ext cx="518148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宋体"/>
              </a:rPr>
              <a:t>Y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áng shuō shénme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2" descr="C:\Documents and Settings\lsabey\Local Settings\Temporary Internet Files\Content.IE5\Q1HN1WZ2\MPj04393170000[1].jpg"/>
          <p:cNvPicPr/>
          <p:nvPr/>
        </p:nvPicPr>
        <p:blipFill>
          <a:blip r:embed="rId1"/>
          <a:stretch/>
        </p:blipFill>
        <p:spPr>
          <a:xfrm>
            <a:off x="3124080" y="1752480"/>
            <a:ext cx="312264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Zhū shuō shénme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3" descr="C:\Documents and Settings\lsabey\Local Settings\Temporary Internet Files\Content.IE5\YSZGR4KJ\MPj02278080000[1].jpg"/>
          <p:cNvPicPr/>
          <p:nvPr/>
        </p:nvPicPr>
        <p:blipFill>
          <a:blip r:embed="rId1"/>
          <a:stretch/>
        </p:blipFill>
        <p:spPr>
          <a:xfrm>
            <a:off x="1828800" y="1752480"/>
            <a:ext cx="549108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Gǒu shuō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2" descr="C:\Documents and Settings\lsabey\Local Settings\Temporary Internet Files\Content.IE5\YSZGR4KJ\MPj04410490000[1].jpg"/>
          <p:cNvPicPr/>
          <p:nvPr/>
        </p:nvPicPr>
        <p:blipFill>
          <a:blip r:embed="rId1"/>
          <a:stretch/>
        </p:blipFill>
        <p:spPr>
          <a:xfrm>
            <a:off x="3048120" y="1752480"/>
            <a:ext cx="289548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7:20:35Z</dcterms:created>
  <dc:creator>itsuser</dc:creator>
  <dc:description/>
  <dc:language>en-US</dc:language>
  <cp:lastModifiedBy>itsuser</cp:lastModifiedBy>
  <dcterms:modified xsi:type="dcterms:W3CDTF">2009-05-26T16:27:02Z</dcterms:modified>
  <cp:revision>856</cp:revision>
  <dc:subject/>
  <dc:title>Gou3, GO fetch</dc:title>
</cp:coreProperties>
</file>